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0B6-A5A1-4316-9987-DF34A573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3DB-13BB-441F-AA52-3EF3EEED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794B8-039A-48F0-8B2B-8BA8A785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16DAC-A39C-4CD7-BABD-BE89DE47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E269D-E0F5-4757-AF2D-9F07876E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D12CB-4420-4899-84FC-D0AB386D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BE1E6-F0E6-4152-AFB4-007883C2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D14F3-0914-4A0A-A8DF-EBD8F8D1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68030-1D1D-46E3-97DB-DB39567D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739E2-945C-4A93-9CF7-2C97556C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63DB0-FF8B-4BE4-984E-3BD54309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ACE31-636C-4CC5-A4EB-3B56F5F2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AFE-19AA-4CAF-B314-C1F6080D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54C3F-5C7D-4950-81F3-8B72209D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3E720-F297-40F8-A9BB-99B672E4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43735-DB36-4957-99D2-788A584D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DF763-F425-4C63-B390-1FAF52DD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43EE9-B8E7-4EB2-87D4-088CE002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4CC2C-67C8-4DE8-8F55-4BAABB8F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908A6-A020-4601-8410-4FA44D7D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74A9E-96BA-4B55-B945-77EFE9C1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046B5-785E-456B-B427-9803F1A3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E7B46-9690-434F-B2C2-FC6C3595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814-C814-4542-AC52-FE1EEFA8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9E342-FB3C-4BCE-AF07-75F7B2CC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83EAB-8914-4180-A5FD-66F92715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359D2-26EF-48A7-9380-161DB6D3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F6232-DE29-4BB4-9677-73690DAC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23DC9-ADD4-4805-8563-8FC5F3F3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255DA-7E15-4DCA-9DF0-5D4D115F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908EE-148D-4145-AF41-7BA047F8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BF42B-CFB2-4875-BB7C-CB14AEC8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A71AC-B6C4-41F7-845C-352545C6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B2111-FFC3-4FDA-9126-355FA8C5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9B28-8294-4F91-B4CE-3B60372A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68F83-95F2-482C-9D70-E6E5B3C5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591B6-0EF9-4778-B594-2FE853E4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BF371-031D-4411-91ED-AEF53836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567B5-7EC1-4993-826A-DE5F4A41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23995-66AC-4640-810A-32E494C4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25717-DC27-4208-AB3C-D5B21871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65D9D-5EEE-440B-9571-9FA9D998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41C67-D346-40FF-8DBC-09EC5DF9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4784E-045D-4363-96DC-1844984F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EA716-BA8D-4998-8602-831680A3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7E66-5A37-4D30-B963-FC084DFF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408F8-F030-4E44-AACF-5D0E9FCD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F6545-6C54-43F1-AB60-64F84DEA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23016-579C-400E-A496-037D7ACA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0D5F8-C87E-4C0B-A2C1-60F5328F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EAAFA-D951-4D20-B283-4B632994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7CE5-0069-4D27-9F2B-834CA039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470E-1FF5-43C7-A11D-7DE59C05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4439-C5E6-4AFA-9F7F-E9D01643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66E4-B3A7-41A7-8D29-BCF50B82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3E56-7A67-4690-BCBE-FFBF63BB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9C8-25B5-4C16-9A51-21A38490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79B1-B9B3-42A2-AF25-AD2AF4B2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554F-2C2E-48CE-A1F9-18820160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9BC7-26E2-4216-9499-BEEDEFFC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A863-C2D4-4E6B-A6D9-71F20DF2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E391-A0DE-4545-926C-E083C9F0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49674-67FF-4335-81EF-EED7D022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40457-16F4-4205-BAA4-BEED8355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3B5B5-C426-4E85-84F4-7E1A6441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4570A-5CF1-47EA-869E-B1EB00B4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6455E-B401-4FAE-85E0-DD0A940F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1C1-1C8D-4D22-826A-42A4CEB3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8B95C-A43D-4CCC-8889-FB15BE65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9968A-5EC0-4D8A-A3AD-C0279CEA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DDDDF-8B9C-4A38-AC59-9B239763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58097-5338-4CE5-B6CE-8086CC1B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57ACB-24F5-40D6-8D2A-78053065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6EB47-723E-4505-8D9B-76F8129F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72CBE-66C8-458D-9F7A-355C8636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3D286-209F-4D80-9CC7-38E1FB2B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FD3C8-C6CC-4D88-84AC-CB449CB8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64EBD-11F3-40B0-9629-9D558C7E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ABC-BFF2-4BE4-BEA1-68D0322A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0FC08-92F5-42C4-A4A4-0E89EE1B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872F8-D6C1-4E1F-856E-0C034389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37391-7D89-4C83-A44F-3F6462AC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F4662-2F08-47D5-BB57-FA78E554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DD8E2-98A5-4723-990A-4F06EDE3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85643-0A62-4BD6-9610-17ADD845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B0F5C-DC70-451E-BAC3-92472D3D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5ED1B-77DF-482F-9DA0-5E872EB9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200F6-3720-4712-87F5-3AB994BD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60394-1E3D-42E8-9395-BEA14BDC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C7D-CCE7-4448-BFAC-BF6C216A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E4631-E202-4671-9765-7D798E25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E4652-D208-4873-9658-90E0650C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3A399-15D6-45F9-AF21-A1607909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9ADE9-314E-4650-9C9A-64D62F7E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3E384-6C23-4EAC-B3D3-67BC9C32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6762E-B2CC-4070-AD06-2D765A55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55611-059A-4D50-9AEF-8EE2149B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2DA8C-0A84-4952-B7DF-53014E45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76019-0AB6-4A52-B258-9D7E3662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EB0FE-DD2D-4F3A-8A6A-2CC6F6E8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B5A-1184-44C9-821A-5BA8C284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E3EC2-2964-4868-9069-4A67646A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B4A6D-E238-4157-A066-73289EE2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00CD5-AA61-45FC-8E9E-42EA3B5B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5F58D-E811-4EEC-A5F4-8D5FAADA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AA76D-6C76-42E8-A2F5-0A8399BC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860FA-2AA5-4E61-BFAD-BEFE3EBB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DA344-1DED-4B6E-A1CB-575B36F2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1820C-2914-4DAB-9181-F7A81F6E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D2538-2AD2-43CA-AC88-99114D0E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6F7B1-A89F-4825-9D1A-EE5EE729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E55-EBF8-4677-AF8F-AC5A35C3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D18F5-7D46-48BC-B5D7-A1BAEDF0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78738-22D6-4E9D-8BFF-B703F005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62265-71ED-4DBE-8038-BAC9C372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6E4C4-752B-4895-8241-1353D1AD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C841B-0DC0-46E5-AFC2-B413DED9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7D6F6-39A7-4F8A-9AFA-EF77C0CE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6B3A1-4FB3-4E88-8395-CAB411C6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FA79C-8C4E-472F-9928-FAD18CD3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BF992-3592-40D8-82CC-0DE9723A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46C1A-AB9F-49B5-B69A-AB8AC259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CCFB-627A-4A22-8E82-F26D04BF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F9C3F-FB20-44DA-B0ED-167FCF0F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3DEAD-C45F-40BC-92AE-2298DF32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3EB3D-E9FB-4E37-981C-CD81F9A5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3A2AE-5369-4967-80E3-35103E60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7FE1D-9A2B-44BB-B4BC-1B496FD6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62156-66F6-4073-B0C4-8E1F04F1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B1AE1-9ED2-4FD2-8618-25723AA6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C7B4C-7922-4A82-9E15-7C27C3A9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87241-821F-4319-836C-E8CB03A9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B7222-02CC-4486-BA8F-A39E0AB6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E3F-1604-4FF1-AA27-50946CA6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01054-49E2-4F6D-BD55-1259737A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02ECA-C6FD-40F4-8BEE-74027644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240D9-6A2D-4217-BFB4-71E5E9C7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E0DC6-CF86-4F9B-826F-1E911D46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420E7-10FB-4F58-9323-B7D1A8C9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CA566-5CC5-428C-97DF-A0F5A18C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094DA-6545-4983-B0BA-892D70D7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4F0FD-5A83-4581-9ECB-F79EB479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06263-331C-4AF1-A55B-44A636DC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026D2-3E72-4148-ACA1-CCA0311A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1895-BA5E-4F95-9BBA-A3245B87400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E011-5062-4782-9290-01B479AC26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FF05-F838-4D5D-A342-0EF03BBC5AA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F3EE-3A24-4EE5-889C-607A29F670D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110C-86A1-441E-A46B-1B437414083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90B3-D652-4AAD-8382-FB2E189B095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12ED-70BC-4685-9DE3-F0B5AC713A3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CF28-F004-4E87-BA41-38C6048F85F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9717-B29D-4157-B4D0-EA48623F334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5AFB-7AE6-4A5D-A8FB-2959606E91F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D18A-680F-470A-BE53-C9EECC38D44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5889-83AD-4ADC-A694-EFA017C92E5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47 Čo dať ti máme, Bože n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dať ti máme, Bože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šetkým vládneš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 máš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y môžeme len česť ti vzd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rúcnym srdcom ďak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ž dosiaľ nám si dal dosť sí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ud tvoj ťa, Pane, prácou ct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 láskou staval tento d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 chváliť mohol teba v ň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hnaj dom tento z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aždej zbav nás úzk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nám je miestom modlitieb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ľud tvoj sýti z neba chlieb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tvoju pomoc dúfa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i dnes vrúcne žel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 pobyt v tvojej blízk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l nám vždy zdrojom r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stále nám je tento d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bytku slávy symbol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všetko zlo sa pomi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ľud tvoj v tebe spočini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8T17:16:41Z</dcterms:modified>
  <cp:revision>52</cp:revision>
  <dc:subject/>
  <dc:title>Je veľký náš Pán, on slávy je Kráľ Nech do všetkých strán  spev vrúcnych znie chvál.</dc:title>
</cp:coreProperties>
</file>